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4A6B-B9F7-44A7-A0F5-759AC04B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5294-E23B-47E4-A2D7-F46AE0B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C4EB-94FF-4A06-8977-14043F02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FE8A-4996-4CF9-956C-383D1401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2381-3ACA-40FA-8CB1-578F7746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711A-D553-409E-A786-0C9E2159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6E98-9499-4E59-A56B-6A08A6E8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ED20-B176-4E03-A3D4-2085C46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6038-8CCE-4346-B2F6-32DF9013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02C8-0745-42E8-918C-3EEF1DE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16E6-916E-4EEA-8FF7-9EBB884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FBA6-463B-4AFD-B409-4A16482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8DD0-E5BF-4D88-AA53-3E523E6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E9C-01CC-4740-A286-3CE16ED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8748-AEAC-4ECA-9D61-39CF018D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836A-C8EB-45AB-92E8-493C88CE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40ED-9F83-482D-845F-A32DA00B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7612-3499-498C-A3D1-C113013C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6F2F-88DB-4FB4-96C2-13E959C5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470A-C876-47E8-A1B0-D413B81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52F5-B245-41FD-9F1D-4D586E9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2978-4438-4260-AE54-94D547C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689F-9D29-4877-B163-E2ED767C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005C-E778-46E2-8BDF-9D3BBDD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5A3-FF23-4875-B6D9-155751B64C0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A91E-00C0-42F4-81D2-C1A6B9DF7469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DAB-2B88-4460-A618-22B5BD893980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B65-F7B7-4327-A99C-1A8EB2CD212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firstname.lastname@deri.org" TargetMode="External"/><Relationship Id="rId3" Type="http://schemas.openxmlformats.org/officeDocument/2006/relationships/hyperlink" Target="mailto:firstname.lastname@deri.org" TargetMode="External"/><Relationship Id="rId4" Type="http://schemas.openxmlformats.org/officeDocument/2006/relationships/hyperlink" Target="http://www.linked2safety-project.eu/user/registe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351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Ensuring Patient Safety in Clinical Trials </a:t>
            </a:r>
            <a:br>
              <a:rPr sz="4000"/>
            </a:br>
            <a:r>
              <a:rPr b="0" lang="en-IE" sz="4400" spc="-1" strike="noStrike">
                <a:solidFill>
                  <a:srgbClr val="00446a"/>
                </a:solidFill>
                <a:latin typeface="Calibri"/>
              </a:rPr>
              <a:t>FP7 Project: Linked2Safet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11200" y="3476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Dr. Ratnesh Sahay, Dr. Ronan Fox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DERI, NUIG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Galway, Ierland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2Slogo900x300with800dpi"/>
          <p:cNvPicPr/>
          <p:nvPr/>
        </p:nvPicPr>
        <p:blipFill>
          <a:blip r:embed="rId1"/>
          <a:stretch/>
        </p:blipFill>
        <p:spPr>
          <a:xfrm>
            <a:off x="2454120" y="222120"/>
            <a:ext cx="3773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A9202-76E9-4CFC-B3D2-E2AA5C0FC22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6440" y="344160"/>
            <a:ext cx="74055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Perturbation and Cell Suppress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09520" y="1773360"/>
            <a:ext cx="425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rig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able 9" descr=""/>
          <p:cNvPicPr/>
          <p:nvPr/>
        </p:nvPicPr>
        <p:blipFill>
          <a:blip r:embed="rId1"/>
          <a:stretch/>
        </p:blipFill>
        <p:spPr>
          <a:xfrm>
            <a:off x="6480" y="2530440"/>
            <a:ext cx="4406760" cy="2664000"/>
          </a:xfrm>
          <a:prstGeom prst="rect">
            <a:avLst/>
          </a:prstGeom>
          <a:ln w="0">
            <a:noFill/>
          </a:ln>
        </p:spPr>
      </p:pic>
      <p:pic>
        <p:nvPicPr>
          <p:cNvPr id="157" name="Table 4" descr=""/>
          <p:cNvPicPr/>
          <p:nvPr/>
        </p:nvPicPr>
        <p:blipFill>
          <a:blip r:embed="rId2"/>
          <a:stretch/>
        </p:blipFill>
        <p:spPr>
          <a:xfrm>
            <a:off x="4327560" y="2530440"/>
            <a:ext cx="440856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925880" y="1758960"/>
            <a:ext cx="31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erturbation (+-1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ell Suppression (&lt;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FDD70-74C1-4947-A915-D1FE4F699AC4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Linked2Safety – </a:t>
            </a: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Approach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779480" y="998640"/>
            <a:ext cx="4997520" cy="4662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7"/>
          <p:cNvGrpSpPr/>
          <p:nvPr/>
        </p:nvGrpSpPr>
        <p:grpSpPr>
          <a:xfrm>
            <a:off x="3168720" y="2362320"/>
            <a:ext cx="5651280" cy="2795400"/>
            <a:chOff x="3168720" y="2362320"/>
            <a:chExt cx="5651280" cy="2795400"/>
          </a:xfrm>
        </p:grpSpPr>
        <p:sp>
          <p:nvSpPr>
            <p:cNvPr id="164" name="Oval 5"/>
            <p:cNvSpPr/>
            <p:nvPr/>
          </p:nvSpPr>
          <p:spPr>
            <a:xfrm>
              <a:off x="3168720" y="2362320"/>
              <a:ext cx="2208240" cy="1982880"/>
            </a:xfrm>
            <a:prstGeom prst="ellipse">
              <a:avLst/>
            </a:prstGeom>
            <a:solidFill>
              <a:srgbClr val="4f81bd">
                <a:alpha val="18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hape 10"/>
            <p:cNvCxnSpPr>
              <a:stCxn id="164" idx="5"/>
              <a:endCxn id="166" idx="1"/>
            </p:cNvCxnSpPr>
            <p:nvPr/>
          </p:nvCxnSpPr>
          <p:spPr>
            <a:xfrm flipH="1" rot="16200000">
              <a:off x="5268600" y="3838320"/>
              <a:ext cx="888120" cy="13197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Rounded Rectangle 11"/>
            <p:cNvSpPr/>
            <p:nvPr/>
          </p:nvSpPr>
          <p:spPr>
            <a:xfrm>
              <a:off x="6372360" y="4726080"/>
              <a:ext cx="244764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Linked Data Cu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4935600" y="1628640"/>
            <a:ext cx="3740040" cy="1105200"/>
            <a:chOff x="4935600" y="1628640"/>
            <a:chExt cx="3740040" cy="1105200"/>
          </a:xfrm>
        </p:grpSpPr>
        <p:sp>
          <p:nvSpPr>
            <p:cNvPr id="168" name="Oval 6"/>
            <p:cNvSpPr/>
            <p:nvPr/>
          </p:nvSpPr>
          <p:spPr>
            <a:xfrm>
              <a:off x="4935600" y="2114640"/>
              <a:ext cx="757080" cy="619200"/>
            </a:xfrm>
            <a:prstGeom prst="ellipse">
              <a:avLst/>
            </a:prstGeom>
            <a:solidFill>
              <a:srgbClr val="122031">
                <a:alpha val="2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Shape 13"/>
            <p:cNvCxnSpPr>
              <a:stCxn id="168" idx="7"/>
              <a:endCxn id="170" idx="1"/>
            </p:cNvCxnSpPr>
            <p:nvPr/>
          </p:nvCxnSpPr>
          <p:spPr>
            <a:xfrm flipH="1" flipV="1" rot="5400000">
              <a:off x="5763600" y="1660680"/>
              <a:ext cx="361080" cy="7275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0" name="Rounded Rectangle 15"/>
            <p:cNvSpPr/>
            <p:nvPr/>
          </p:nvSpPr>
          <p:spPr>
            <a:xfrm>
              <a:off x="6308640" y="1628640"/>
              <a:ext cx="2367000" cy="432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Semantic EH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468360" y="1700280"/>
            <a:ext cx="2833560" cy="2149560"/>
            <a:chOff x="468360" y="1700280"/>
            <a:chExt cx="2833560" cy="2149560"/>
          </a:xfrm>
        </p:grpSpPr>
        <p:sp>
          <p:nvSpPr>
            <p:cNvPr id="172" name="Oval 7"/>
            <p:cNvSpPr/>
            <p:nvPr/>
          </p:nvSpPr>
          <p:spPr>
            <a:xfrm>
              <a:off x="2158920" y="2857680"/>
              <a:ext cx="1143000" cy="992160"/>
            </a:xfrm>
            <a:prstGeom prst="ellipse">
              <a:avLst/>
            </a:prstGeom>
            <a:solidFill>
              <a:srgbClr val="c00000">
                <a:alpha val="3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hape 18"/>
            <p:cNvCxnSpPr>
              <a:stCxn id="172" idx="0"/>
              <a:endCxn id="174" idx="2"/>
            </p:cNvCxnSpPr>
            <p:nvPr/>
          </p:nvCxnSpPr>
          <p:spPr>
            <a:xfrm flipV="1" rot="16200000">
              <a:off x="1720440" y="1846800"/>
              <a:ext cx="726120" cy="129456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4" name="Rounded Rectangle 21"/>
            <p:cNvSpPr/>
            <p:nvPr/>
          </p:nvSpPr>
          <p:spPr>
            <a:xfrm>
              <a:off x="468360" y="1700280"/>
              <a:ext cx="193500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licy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69164-78BB-48A6-A827-B07482EEC920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Semantic EHR Model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447920" y="3860640"/>
            <a:ext cx="64483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843280" y="2492280"/>
            <a:ext cx="5572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C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2357280" y="1484280"/>
            <a:ext cx="7318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9"/>
          <p:cNvCxnSpPr>
            <a:endCxn id="179" idx="2"/>
          </p:cNvCxnSpPr>
          <p:nvPr/>
        </p:nvCxnSpPr>
        <p:spPr>
          <a:xfrm flipV="1" rot="16200000">
            <a:off x="2647440" y="2939040"/>
            <a:ext cx="1189800" cy="799200"/>
          </a:xfrm>
          <a:prstGeom prst="curvedConnector5">
            <a:avLst>
              <a:gd name="adj1" fmla="val 39376"/>
              <a:gd name="adj2" fmla="val 63226"/>
              <a:gd name="adj3" fmla="val 39376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2" name="Shape 10"/>
          <p:cNvCxnSpPr>
            <a:stCxn id="179" idx="2"/>
            <a:endCxn id="180" idx="3"/>
          </p:cNvCxnSpPr>
          <p:nvPr/>
        </p:nvCxnSpPr>
        <p:spPr>
          <a:xfrm rot="10800000">
            <a:off x="2464560" y="1853640"/>
            <a:ext cx="378720" cy="891000"/>
          </a:xfrm>
          <a:prstGeom prst="curvedConnector2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3" name="Text Box 20"/>
          <p:cNvSpPr/>
          <p:nvPr/>
        </p:nvSpPr>
        <p:spPr>
          <a:xfrm>
            <a:off x="1979640" y="2257560"/>
            <a:ext cx="976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979640" y="3274920"/>
            <a:ext cx="106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 flipV="1">
            <a:off x="1116000" y="2781000"/>
            <a:ext cx="79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 rot="5400000">
            <a:off x="407520" y="4284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4129200" y="38926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1116000" y="156672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1581120" y="4365720"/>
            <a:ext cx="16621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HU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sychiatr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3308400" y="4365720"/>
            <a:ext cx="15285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Diab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5048280" y="4149720"/>
            <a:ext cx="22604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ZEIN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oncomitant Medication (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Respirato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 rot="16200000">
            <a:off x="509040" y="18082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2"/>
          <p:cNvGrpSpPr/>
          <p:nvPr/>
        </p:nvGrpSpPr>
        <p:grpSpPr>
          <a:xfrm>
            <a:off x="3089160" y="1484280"/>
            <a:ext cx="5946840" cy="580680"/>
            <a:chOff x="3089160" y="1484280"/>
            <a:chExt cx="5946840" cy="580680"/>
          </a:xfrm>
        </p:grpSpPr>
        <p:sp>
          <p:nvSpPr>
            <p:cNvPr id="194" name="Text Box 20"/>
            <p:cNvSpPr/>
            <p:nvPr/>
          </p:nvSpPr>
          <p:spPr>
            <a:xfrm>
              <a:off x="5114880" y="1484280"/>
              <a:ext cx="3921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UMLS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OBO Found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(Basic Formal Ontolog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Shape 207"/>
            <p:cNvCxnSpPr>
              <a:stCxn id="180" idx="6"/>
            </p:cNvCxnSpPr>
            <p:nvPr/>
          </p:nvCxnSpPr>
          <p:spPr>
            <a:xfrm>
              <a:off x="3089160" y="1701720"/>
              <a:ext cx="2812320" cy="216720"/>
            </a:xfrm>
            <a:prstGeom prst="curvedConnector5">
              <a:avLst>
                <a:gd name="adj1" fmla="val 49993"/>
                <a:gd name="adj2" fmla="val 49916"/>
                <a:gd name="adj3" fmla="val 49993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6" name="Group 66"/>
          <p:cNvGrpSpPr/>
          <p:nvPr/>
        </p:nvGrpSpPr>
        <p:grpSpPr>
          <a:xfrm>
            <a:off x="3381120" y="2616120"/>
            <a:ext cx="5727960" cy="524160"/>
            <a:chOff x="3381120" y="2616120"/>
            <a:chExt cx="5727960" cy="524160"/>
          </a:xfrm>
        </p:grpSpPr>
        <p:sp>
          <p:nvSpPr>
            <p:cNvPr id="197" name="Text Box 20"/>
            <p:cNvSpPr/>
            <p:nvPr/>
          </p:nvSpPr>
          <p:spPr>
            <a:xfrm>
              <a:off x="3924360" y="2802960"/>
              <a:ext cx="5184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</a:t>
              </a:r>
              <a:r>
                <a:rPr b="0" lang="en-IE" sz="1600" spc="-1" strike="noStrike">
                  <a:solidFill>
                    <a:srgbClr val="000000"/>
                  </a:solidFill>
                  <a:latin typeface="Book Antiqua"/>
                </a:rPr>
                <a:t>Advancing Clinico-Genomic Trials on Cancer (ACG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hape 207"/>
            <p:cNvCxnSpPr/>
            <p:nvPr/>
          </p:nvCxnSpPr>
          <p:spPr>
            <a:xfrm>
              <a:off x="3381120" y="2616120"/>
              <a:ext cx="1011960" cy="239040"/>
            </a:xfrm>
            <a:prstGeom prst="curvedConnector5">
              <a:avLst>
                <a:gd name="adj1" fmla="val 50000"/>
                <a:gd name="adj2" fmla="val 4992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9" name="Group 32"/>
          <p:cNvGrpSpPr/>
          <p:nvPr/>
        </p:nvGrpSpPr>
        <p:grpSpPr>
          <a:xfrm>
            <a:off x="1846440" y="4466520"/>
            <a:ext cx="4652640" cy="763200"/>
            <a:chOff x="1846440" y="4466520"/>
            <a:chExt cx="4652640" cy="763200"/>
          </a:xfrm>
        </p:grpSpPr>
        <p:sp>
          <p:nvSpPr>
            <p:cNvPr id="200" name="Oval 33"/>
            <p:cNvSpPr/>
            <p:nvPr/>
          </p:nvSpPr>
          <p:spPr>
            <a:xfrm>
              <a:off x="1846440" y="4653000"/>
              <a:ext cx="106344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302800" y="4941000"/>
              <a:ext cx="119628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Curved Connector 35"/>
            <p:cNvCxnSpPr>
              <a:stCxn id="200" idx="7"/>
            </p:cNvCxnSpPr>
            <p:nvPr/>
          </p:nvCxnSpPr>
          <p:spPr>
            <a:xfrm flipH="1" rot="16200000">
              <a:off x="3894120" y="3554640"/>
              <a:ext cx="534960" cy="2815200"/>
            </a:xfrm>
            <a:prstGeom prst="curvedConnector5">
              <a:avLst>
                <a:gd name="adj1" fmla="val -42760"/>
                <a:gd name="adj2" fmla="val 26371"/>
                <a:gd name="adj3" fmla="val -4276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203" name="Group 41"/>
          <p:cNvGrpSpPr/>
          <p:nvPr/>
        </p:nvGrpSpPr>
        <p:grpSpPr>
          <a:xfrm>
            <a:off x="1779480" y="4653000"/>
            <a:ext cx="4919760" cy="647280"/>
            <a:chOff x="1779480" y="4653000"/>
            <a:chExt cx="4919760" cy="647280"/>
          </a:xfrm>
        </p:grpSpPr>
        <p:sp>
          <p:nvSpPr>
            <p:cNvPr id="204" name="Oval 42"/>
            <p:cNvSpPr/>
            <p:nvPr/>
          </p:nvSpPr>
          <p:spPr>
            <a:xfrm>
              <a:off x="1779480" y="5012640"/>
              <a:ext cx="113004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5303160" y="4653000"/>
              <a:ext cx="139608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Curved Connector 47"/>
            <p:cNvCxnSpPr>
              <a:endCxn id="205" idx="2"/>
            </p:cNvCxnSpPr>
            <p:nvPr/>
          </p:nvCxnSpPr>
          <p:spPr>
            <a:xfrm flipV="1">
              <a:off x="2842920" y="4796280"/>
              <a:ext cx="2460600" cy="504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07" name="Oval 51"/>
          <p:cNvSpPr/>
          <p:nvPr/>
        </p:nvSpPr>
        <p:spPr>
          <a:xfrm>
            <a:off x="3602160" y="5229360"/>
            <a:ext cx="1330200" cy="360360"/>
          </a:xfrm>
          <a:prstGeom prst="ellipse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71640" y="4348080"/>
          <a:ext cx="4032360" cy="10969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Object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Data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0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6DFFD-CDA9-483D-A55B-538EA4839F7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97a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785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Policy-Based User Restricted Resourc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212" name="Group 96"/>
          <p:cNvGrpSpPr/>
          <p:nvPr/>
        </p:nvGrpSpPr>
        <p:grpSpPr>
          <a:xfrm>
            <a:off x="468360" y="1376280"/>
            <a:ext cx="3672000" cy="2097000"/>
            <a:chOff x="468360" y="1376280"/>
            <a:chExt cx="3672000" cy="2097000"/>
          </a:xfrm>
        </p:grpSpPr>
        <p:sp>
          <p:nvSpPr>
            <p:cNvPr id="213" name="Oval 5"/>
            <p:cNvSpPr/>
            <p:nvPr/>
          </p:nvSpPr>
          <p:spPr>
            <a:xfrm>
              <a:off x="68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212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Straight Arrow Connector 10"/>
            <p:cNvCxnSpPr>
              <a:stCxn id="213" idx="6"/>
              <a:endCxn id="214" idx="2"/>
            </p:cNvCxnSpPr>
            <p:nvPr/>
          </p:nvCxnSpPr>
          <p:spPr>
            <a:xfrm>
              <a:off x="1331640" y="177192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6" name="Oval 15"/>
            <p:cNvSpPr/>
            <p:nvPr/>
          </p:nvSpPr>
          <p:spPr>
            <a:xfrm>
              <a:off x="1475640" y="141228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8"/>
            <p:cNvGrpSpPr/>
            <p:nvPr/>
          </p:nvGrpSpPr>
          <p:grpSpPr>
            <a:xfrm>
              <a:off x="2684520" y="1880280"/>
              <a:ext cx="1139760" cy="1170720"/>
              <a:chOff x="2684520" y="1880280"/>
              <a:chExt cx="1139760" cy="1170720"/>
            </a:xfrm>
          </p:grpSpPr>
          <p:grpSp>
            <p:nvGrpSpPr>
              <p:cNvPr id="218" name="Group 13"/>
              <p:cNvGrpSpPr/>
              <p:nvPr/>
            </p:nvGrpSpPr>
            <p:grpSpPr>
              <a:xfrm>
                <a:off x="2684520" y="1897920"/>
                <a:ext cx="1139760" cy="1153080"/>
                <a:chOff x="2684520" y="1897920"/>
                <a:chExt cx="1139760" cy="1153080"/>
              </a:xfrm>
            </p:grpSpPr>
            <p:sp>
              <p:nvSpPr>
                <p:cNvPr id="219" name="Oval 11"/>
                <p:cNvSpPr/>
                <p:nvPr/>
              </p:nvSpPr>
              <p:spPr>
                <a:xfrm rot="2721600">
                  <a:off x="3142080" y="2512800"/>
                  <a:ext cx="65088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0" name="Straight Arrow Connector 12"/>
                <p:cNvCxnSpPr>
                  <a:endCxn id="219" idx="2"/>
                </p:cNvCxnSpPr>
                <p:nvPr/>
              </p:nvCxnSpPr>
              <p:spPr>
                <a:xfrm>
                  <a:off x="2684520" y="1897920"/>
                  <a:ext cx="558360" cy="56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1" name="Oval 17"/>
              <p:cNvSpPr/>
              <p:nvPr/>
            </p:nvSpPr>
            <p:spPr>
              <a:xfrm>
                <a:off x="2772000" y="1880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9"/>
            <p:cNvGrpSpPr/>
            <p:nvPr/>
          </p:nvGrpSpPr>
          <p:grpSpPr>
            <a:xfrm>
              <a:off x="1065600" y="1961280"/>
              <a:ext cx="1138680" cy="1170720"/>
              <a:chOff x="1065600" y="1961280"/>
              <a:chExt cx="1138680" cy="1170720"/>
            </a:xfrm>
          </p:grpSpPr>
          <p:grpSp>
            <p:nvGrpSpPr>
              <p:cNvPr id="223" name="Group 13"/>
              <p:cNvGrpSpPr/>
              <p:nvPr/>
            </p:nvGrpSpPr>
            <p:grpSpPr>
              <a:xfrm>
                <a:off x="1065600" y="1977480"/>
                <a:ext cx="1138680" cy="1154520"/>
                <a:chOff x="1065600" y="1977480"/>
                <a:chExt cx="1138680" cy="1154520"/>
              </a:xfrm>
            </p:grpSpPr>
            <p:sp>
              <p:nvSpPr>
                <p:cNvPr id="224" name="Oval 22"/>
                <p:cNvSpPr/>
                <p:nvPr/>
              </p:nvSpPr>
              <p:spPr>
                <a:xfrm rot="2721600">
                  <a:off x="1523160" y="2594520"/>
                  <a:ext cx="64944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Straight Arrow Connector 23"/>
                <p:cNvCxnSpPr>
                  <a:endCxn id="224" idx="2"/>
                </p:cNvCxnSpPr>
                <p:nvPr/>
              </p:nvCxnSpPr>
              <p:spPr>
                <a:xfrm>
                  <a:off x="1065600" y="1977480"/>
                  <a:ext cx="558360" cy="566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6" name="Oval 21"/>
              <p:cNvSpPr/>
              <p:nvPr/>
            </p:nvSpPr>
            <p:spPr>
              <a:xfrm>
                <a:off x="1151640" y="1961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0"/>
            <p:cNvGrpSpPr/>
            <p:nvPr/>
          </p:nvGrpSpPr>
          <p:grpSpPr>
            <a:xfrm>
              <a:off x="730440" y="1928880"/>
              <a:ext cx="738000" cy="1450800"/>
              <a:chOff x="730440" y="1928880"/>
              <a:chExt cx="738000" cy="145080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812160" y="1928880"/>
                <a:ext cx="467640" cy="1450800"/>
                <a:chOff x="812160" y="1928880"/>
                <a:chExt cx="467640" cy="1450800"/>
              </a:xfrm>
            </p:grpSpPr>
            <p:sp>
              <p:nvSpPr>
                <p:cNvPr id="229" name="Oval 43"/>
                <p:cNvSpPr/>
                <p:nvPr/>
              </p:nvSpPr>
              <p:spPr>
                <a:xfrm rot="4799400">
                  <a:off x="720720" y="2847960"/>
                  <a:ext cx="65052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Straight Arrow Connector 44"/>
                <p:cNvCxnSpPr>
                  <a:endCxn id="229" idx="2"/>
                </p:cNvCxnSpPr>
                <p:nvPr/>
              </p:nvCxnSpPr>
              <p:spPr>
                <a:xfrm>
                  <a:off x="856080" y="1928880"/>
                  <a:ext cx="137520" cy="78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31" name="Oval 42"/>
              <p:cNvSpPr/>
              <p:nvPr/>
            </p:nvSpPr>
            <p:spPr>
              <a:xfrm rot="2077800">
                <a:off x="775440" y="21160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ounded Rectangle 70"/>
            <p:cNvSpPr/>
            <p:nvPr/>
          </p:nvSpPr>
          <p:spPr>
            <a:xfrm>
              <a:off x="468360" y="1376280"/>
              <a:ext cx="3672000" cy="2097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71"/>
            <p:cNvSpPr/>
            <p:nvPr/>
          </p:nvSpPr>
          <p:spPr>
            <a:xfrm>
              <a:off x="1617480" y="306000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ata C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V="1">
              <a:off x="4140360" y="21531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8"/>
          <p:cNvGrpSpPr/>
          <p:nvPr/>
        </p:nvGrpSpPr>
        <p:grpSpPr>
          <a:xfrm>
            <a:off x="4141800" y="1989000"/>
            <a:ext cx="1363680" cy="368280"/>
            <a:chOff x="4141800" y="1989000"/>
            <a:chExt cx="1363680" cy="368280"/>
          </a:xfrm>
        </p:grpSpPr>
        <p:sp>
          <p:nvSpPr>
            <p:cNvPr id="236" name="Line 20"/>
            <p:cNvSpPr/>
            <p:nvPr/>
          </p:nvSpPr>
          <p:spPr>
            <a:xfrm>
              <a:off x="41418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49752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76"/>
            <p:cNvGrpSpPr/>
            <p:nvPr/>
          </p:nvGrpSpPr>
          <p:grpSpPr>
            <a:xfrm>
              <a:off x="4659480" y="1989000"/>
              <a:ext cx="305280" cy="368280"/>
              <a:chOff x="4659480" y="1989000"/>
              <a:chExt cx="305280" cy="368280"/>
            </a:xfrm>
          </p:grpSpPr>
          <p:sp>
            <p:nvSpPr>
              <p:cNvPr id="239" name="Flowchart: Connector 80"/>
              <p:cNvSpPr/>
              <p:nvPr/>
            </p:nvSpPr>
            <p:spPr>
              <a:xfrm>
                <a:off x="4659480" y="2076120"/>
                <a:ext cx="303120" cy="233280"/>
              </a:xfrm>
              <a:prstGeom prst="flowChartConnector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81"/>
              <p:cNvSpPr/>
              <p:nvPr/>
            </p:nvSpPr>
            <p:spPr>
              <a:xfrm>
                <a:off x="4669560" y="1989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99"/>
          <p:cNvGrpSpPr/>
          <p:nvPr/>
        </p:nvGrpSpPr>
        <p:grpSpPr>
          <a:xfrm>
            <a:off x="4846680" y="2328840"/>
            <a:ext cx="804960" cy="1892520"/>
            <a:chOff x="4846680" y="2328840"/>
            <a:chExt cx="804960" cy="1892520"/>
          </a:xfrm>
        </p:grpSpPr>
        <p:sp>
          <p:nvSpPr>
            <p:cNvPr id="242" name="Line 20"/>
            <p:cNvSpPr/>
            <p:nvPr/>
          </p:nvSpPr>
          <p:spPr>
            <a:xfrm>
              <a:off x="4846680" y="2328840"/>
              <a:ext cx="12600" cy="18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Straight Arrow Connector 86"/>
            <p:cNvCxnSpPr/>
            <p:nvPr/>
          </p:nvCxnSpPr>
          <p:spPr>
            <a:xfrm>
              <a:off x="4858920" y="422064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4" name="Group 101"/>
          <p:cNvGrpSpPr/>
          <p:nvPr/>
        </p:nvGrpSpPr>
        <p:grpSpPr>
          <a:xfrm>
            <a:off x="539640" y="4005360"/>
            <a:ext cx="2880000" cy="863640"/>
            <a:chOff x="539640" y="4005360"/>
            <a:chExt cx="2880000" cy="863640"/>
          </a:xfrm>
        </p:grpSpPr>
        <p:sp>
          <p:nvSpPr>
            <p:cNvPr id="245" name="Oval 62"/>
            <p:cNvSpPr/>
            <p:nvPr/>
          </p:nvSpPr>
          <p:spPr>
            <a:xfrm>
              <a:off x="90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234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Straight Arrow Connector 64"/>
            <p:cNvCxnSpPr>
              <a:stCxn id="245" idx="6"/>
              <a:endCxn id="246" idx="2"/>
            </p:cNvCxnSpPr>
            <p:nvPr/>
          </p:nvCxnSpPr>
          <p:spPr>
            <a:xfrm>
              <a:off x="1547640" y="4364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Oval 65"/>
            <p:cNvSpPr/>
            <p:nvPr/>
          </p:nvSpPr>
          <p:spPr>
            <a:xfrm>
              <a:off x="1691640" y="4005360"/>
              <a:ext cx="648000" cy="359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ounded Rectangle 89"/>
            <p:cNvSpPr/>
            <p:nvPr/>
          </p:nvSpPr>
          <p:spPr>
            <a:xfrm>
              <a:off x="539640" y="4005360"/>
              <a:ext cx="288000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0"/>
            <p:cNvSpPr/>
            <p:nvPr/>
          </p:nvSpPr>
          <p:spPr>
            <a:xfrm>
              <a:off x="1567800" y="45306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02"/>
          <p:cNvGrpSpPr/>
          <p:nvPr/>
        </p:nvGrpSpPr>
        <p:grpSpPr>
          <a:xfrm>
            <a:off x="990360" y="4868640"/>
            <a:ext cx="5781600" cy="1058040"/>
            <a:chOff x="990360" y="4868640"/>
            <a:chExt cx="5781600" cy="1058040"/>
          </a:xfrm>
        </p:grpSpPr>
        <p:sp>
          <p:nvSpPr>
            <p:cNvPr id="252" name="Oval 66"/>
            <p:cNvSpPr/>
            <p:nvPr/>
          </p:nvSpPr>
          <p:spPr>
            <a:xfrm>
              <a:off x="3132360" y="52293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4572000" y="52293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Straight Arrow Connector 68"/>
            <p:cNvCxnSpPr>
              <a:stCxn id="252" idx="6"/>
              <a:endCxn id="253" idx="2"/>
            </p:cNvCxnSpPr>
            <p:nvPr/>
          </p:nvCxnSpPr>
          <p:spPr>
            <a:xfrm>
              <a:off x="3780720" y="5408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5" name="Oval 69"/>
            <p:cNvSpPr/>
            <p:nvPr/>
          </p:nvSpPr>
          <p:spPr>
            <a:xfrm>
              <a:off x="3924720" y="504900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ounded Rectangle 87"/>
            <p:cNvSpPr/>
            <p:nvPr/>
          </p:nvSpPr>
          <p:spPr>
            <a:xfrm>
              <a:off x="2771640" y="4976640"/>
              <a:ext cx="288144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8"/>
            <p:cNvSpPr/>
            <p:nvPr/>
          </p:nvSpPr>
          <p:spPr>
            <a:xfrm>
              <a:off x="3727080" y="5589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Straight Arrow Connector 92"/>
            <p:cNvCxnSpPr>
              <a:endCxn id="256" idx="3"/>
            </p:cNvCxnSpPr>
            <p:nvPr/>
          </p:nvCxnSpPr>
          <p:spPr>
            <a:xfrm flipH="1">
              <a:off x="5652360" y="5157000"/>
              <a:ext cx="111996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9" name="Straight Arrow Connector 94"/>
            <p:cNvCxnSpPr/>
            <p:nvPr/>
          </p:nvCxnSpPr>
          <p:spPr>
            <a:xfrm>
              <a:off x="990360" y="4868640"/>
              <a:ext cx="178236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60" name="Group 100"/>
          <p:cNvGrpSpPr/>
          <p:nvPr/>
        </p:nvGrpSpPr>
        <p:grpSpPr>
          <a:xfrm>
            <a:off x="5651640" y="3500280"/>
            <a:ext cx="2881080" cy="1657440"/>
            <a:chOff x="5651640" y="3500280"/>
            <a:chExt cx="2881080" cy="1657440"/>
          </a:xfrm>
        </p:grpSpPr>
        <p:sp>
          <p:nvSpPr>
            <p:cNvPr id="261" name="Oval 45"/>
            <p:cNvSpPr/>
            <p:nvPr/>
          </p:nvSpPr>
          <p:spPr>
            <a:xfrm>
              <a:off x="6083280" y="38685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6"/>
            <p:cNvSpPr/>
            <p:nvPr/>
          </p:nvSpPr>
          <p:spPr>
            <a:xfrm>
              <a:off x="7524720" y="38685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Straight Arrow Connector 47"/>
            <p:cNvCxnSpPr>
              <a:stCxn id="261" idx="6"/>
              <a:endCxn id="262" idx="2"/>
            </p:cNvCxnSpPr>
            <p:nvPr/>
          </p:nvCxnSpPr>
          <p:spPr>
            <a:xfrm>
              <a:off x="6731640" y="404820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264" name="Group 49"/>
            <p:cNvGrpSpPr/>
            <p:nvPr/>
          </p:nvGrpSpPr>
          <p:grpSpPr>
            <a:xfrm>
              <a:off x="6615720" y="3982680"/>
              <a:ext cx="1278000" cy="1174680"/>
              <a:chOff x="6615720" y="3982680"/>
              <a:chExt cx="1278000" cy="1174680"/>
            </a:xfrm>
          </p:grpSpPr>
          <p:sp>
            <p:nvSpPr>
              <p:cNvPr id="265" name="Oval 51"/>
              <p:cNvSpPr/>
              <p:nvPr/>
            </p:nvSpPr>
            <p:spPr>
              <a:xfrm rot="2126400">
                <a:off x="7199280" y="4641840"/>
                <a:ext cx="64980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Arrow Connector 52"/>
              <p:cNvCxnSpPr>
                <a:endCxn id="265" idx="2"/>
              </p:cNvCxnSpPr>
              <p:nvPr/>
            </p:nvCxnSpPr>
            <p:spPr>
              <a:xfrm>
                <a:off x="6615720" y="4175280"/>
                <a:ext cx="646200" cy="46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67" name="Oval 53"/>
              <p:cNvSpPr/>
              <p:nvPr/>
            </p:nvSpPr>
            <p:spPr>
              <a:xfrm rot="2126400">
                <a:off x="6676200" y="4137120"/>
                <a:ext cx="64872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ounded Rectangle 74"/>
            <p:cNvSpPr/>
            <p:nvPr/>
          </p:nvSpPr>
          <p:spPr>
            <a:xfrm>
              <a:off x="5651640" y="3500280"/>
              <a:ext cx="2881080" cy="1657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75"/>
            <p:cNvSpPr/>
            <p:nvPr/>
          </p:nvSpPr>
          <p:spPr>
            <a:xfrm>
              <a:off x="5837760" y="46800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5"/>
            <p:cNvSpPr/>
            <p:nvPr/>
          </p:nvSpPr>
          <p:spPr>
            <a:xfrm>
              <a:off x="6804000" y="3716280"/>
              <a:ext cx="648000" cy="360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Oval 103"/>
          <p:cNvSpPr/>
          <p:nvPr/>
        </p:nvSpPr>
        <p:spPr>
          <a:xfrm>
            <a:off x="5845320" y="3451320"/>
            <a:ext cx="2614320" cy="1778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1"/>
          <p:cNvGrpSpPr/>
          <p:nvPr/>
        </p:nvGrpSpPr>
        <p:grpSpPr>
          <a:xfrm>
            <a:off x="5505480" y="1484280"/>
            <a:ext cx="2949480" cy="1649520"/>
            <a:chOff x="5505480" y="1484280"/>
            <a:chExt cx="2949480" cy="1649520"/>
          </a:xfrm>
        </p:grpSpPr>
        <p:grpSp>
          <p:nvGrpSpPr>
            <p:cNvPr id="273" name="Group 97"/>
            <p:cNvGrpSpPr/>
            <p:nvPr/>
          </p:nvGrpSpPr>
          <p:grpSpPr>
            <a:xfrm>
              <a:off x="5505480" y="1484280"/>
              <a:ext cx="2949480" cy="1649520"/>
              <a:chOff x="5505480" y="1484280"/>
              <a:chExt cx="2949480" cy="1649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5867280" y="1989000"/>
                <a:ext cx="64908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0"/>
              <p:cNvSpPr/>
              <p:nvPr/>
            </p:nvSpPr>
            <p:spPr>
              <a:xfrm>
                <a:off x="7308720" y="1989000"/>
                <a:ext cx="64764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Arrow Connector 31"/>
              <p:cNvCxnSpPr>
                <a:stCxn id="274" idx="6"/>
                <a:endCxn id="275" idx="2"/>
              </p:cNvCxnSpPr>
              <p:nvPr/>
            </p:nvCxnSpPr>
            <p:spPr>
              <a:xfrm>
                <a:off x="6516000" y="2168280"/>
                <a:ext cx="79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77" name="Oval 32"/>
              <p:cNvSpPr/>
              <p:nvPr/>
            </p:nvSpPr>
            <p:spPr>
              <a:xfrm>
                <a:off x="6516360" y="188064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48"/>
              <p:cNvGrpSpPr/>
              <p:nvPr/>
            </p:nvGrpSpPr>
            <p:grpSpPr>
              <a:xfrm>
                <a:off x="5868000" y="2529360"/>
                <a:ext cx="2088720" cy="468360"/>
                <a:chOff x="5868000" y="2529360"/>
                <a:chExt cx="2088720" cy="468360"/>
              </a:xfrm>
            </p:grpSpPr>
            <p:sp>
              <p:nvSpPr>
                <p:cNvPr id="279" name="Oval 36"/>
                <p:cNvSpPr/>
                <p:nvPr/>
              </p:nvSpPr>
              <p:spPr>
                <a:xfrm>
                  <a:off x="586800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730908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 </a:t>
                  </a: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1" name="Straight Arrow Connector 38"/>
                <p:cNvCxnSpPr>
                  <a:stCxn id="279" idx="6"/>
                  <a:endCxn id="280" idx="2"/>
                </p:cNvCxnSpPr>
                <p:nvPr/>
              </p:nvCxnSpPr>
              <p:spPr>
                <a:xfrm>
                  <a:off x="6516720" y="2817360"/>
                  <a:ext cx="792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82" name="Oval 39"/>
                <p:cNvSpPr/>
                <p:nvPr/>
              </p:nvSpPr>
              <p:spPr>
                <a:xfrm>
                  <a:off x="6588720" y="2529360"/>
                  <a:ext cx="648000" cy="360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P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Rounded Rectangle 72"/>
              <p:cNvSpPr/>
              <p:nvPr/>
            </p:nvSpPr>
            <p:spPr>
              <a:xfrm>
                <a:off x="5508360" y="1484280"/>
                <a:ext cx="2943360" cy="164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73"/>
              <p:cNvSpPr/>
              <p:nvPr/>
            </p:nvSpPr>
            <p:spPr>
              <a:xfrm rot="5400000">
                <a:off x="7513920" y="2192040"/>
                <a:ext cx="154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Access Poli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0"/>
              <p:cNvSpPr/>
              <p:nvPr/>
            </p:nvSpPr>
            <p:spPr>
              <a:xfrm>
                <a:off x="5505480" y="2154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7452720" y="166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"/>
            <p:cNvSpPr/>
            <p:nvPr/>
          </p:nvSpPr>
          <p:spPr>
            <a:xfrm>
              <a:off x="7452720" y="238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22498-181B-4090-9CF5-B8C5EB5BDE8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40000" y="417600"/>
            <a:ext cx="37447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Current Statu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773360"/>
            <a:ext cx="878508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Basic prototypes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complete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Data-cube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building at clinical sit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Special Interest Group (SIG)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Legal ethical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framework and </a:t>
            </a: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exploitation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strategy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CF55E-5C3D-4CA1-9288-2CCB99669E40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L2Slogo900x300with800dpi"/>
          <p:cNvPicPr/>
          <p:nvPr/>
        </p:nvPicPr>
        <p:blipFill>
          <a:blip r:embed="rId1"/>
          <a:stretch/>
        </p:blipFill>
        <p:spPr>
          <a:xfrm>
            <a:off x="2527200" y="1413000"/>
            <a:ext cx="3773520" cy="1261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2232000" y="3281400"/>
            <a:ext cx="457200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Book Antiqua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Dr. Ratnesh Sahay, Dr. Ronan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6600"/>
                </a:solidFill>
                <a:latin typeface="Book Antiqua"/>
              </a:rPr>
              <a:t>DERI, NU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Tel: +353 91 495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Fax: +353 91 495541 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 Antiqua"/>
              </a:rPr>
              <a:t>email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firstname.lastname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@deri.org</a:t>
            </a: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257640" y="2492280"/>
            <a:ext cx="51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linked2safety-project.eu/user/regist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1352520" y="2492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Join SIG @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3492360" y="5157720"/>
            <a:ext cx="2303640" cy="5749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73B83-072D-4404-A62E-E89BC43D574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8291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4" name="Espace réservé du pied de page 37"/>
          <p:cNvSpPr/>
          <p:nvPr/>
        </p:nvSpPr>
        <p:spPr>
          <a:xfrm>
            <a:off x="3059280" y="6308640"/>
            <a:ext cx="30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1290600"/>
            <a:ext cx="9361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INTRASOFT INTERNATIONAL SA, Belg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CYPRUS, Cypr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DERI-NATIONAL UNIVERSITY OF IRELAND, GALWAY, Ir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MANCHESTER, U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CENTRE FOR RESEARCH AND TECHNOLOGY HELLAS (CERTH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SIVECO Romania S.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BITECH Research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159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15968"/>
                </a:solidFill>
                <a:latin typeface="Calibri"/>
              </a:rPr>
              <a:t>GOTTFRIED WILHELM LEIBNIZ UNIVERSITAET HANNOVER (LUH),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Cyprus Institute of Neurology and Genetics (CING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ZEINCRO Hellas S.A.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HOSPICES CANTONAUX CHUV, 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A1007-7AED-4286-9B0C-57727DDCAD3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34"/>
          <p:cNvSpPr/>
          <p:nvPr/>
        </p:nvSpPr>
        <p:spPr>
          <a:xfrm>
            <a:off x="3635280" y="4221000"/>
            <a:ext cx="289080" cy="216000"/>
          </a:xfrm>
          <a:prstGeom prst="ellipse">
            <a:avLst/>
          </a:prstGeom>
          <a:solidFill>
            <a:srgbClr val="12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9680" y="549000"/>
            <a:ext cx="3117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9" name="Shape 33"/>
          <p:cNvSpPr/>
          <p:nvPr/>
        </p:nvSpPr>
        <p:spPr>
          <a:xfrm>
            <a:off x="611280" y="2781360"/>
            <a:ext cx="7993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urn number of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subjects (i.e., patien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ave been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administ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drug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Insu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xhibit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B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gt; 25 and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Dyslipid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1600" spc="-1" strike="noStrike">
                <a:solidFill>
                  <a:srgbClr val="7030a0"/>
                </a:solidFill>
                <a:latin typeface="Arial"/>
              </a:rPr>
              <a:t>Agoraphobia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dvers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622440" y="3284640"/>
            <a:ext cx="1645920" cy="1296720"/>
            <a:chOff x="622440" y="3284640"/>
            <a:chExt cx="1645920" cy="1296720"/>
          </a:xfrm>
        </p:grpSpPr>
        <p:sp>
          <p:nvSpPr>
            <p:cNvPr id="101" name="Oval 5"/>
            <p:cNvSpPr/>
            <p:nvPr/>
          </p:nvSpPr>
          <p:spPr>
            <a:xfrm>
              <a:off x="622440" y="3284640"/>
              <a:ext cx="7920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693720" y="4149720"/>
              <a:ext cx="15746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RxN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Curved Connector 7"/>
            <p:cNvCxnSpPr>
              <a:stCxn id="101" idx="4"/>
              <a:endCxn id="102" idx="0"/>
            </p:cNvCxnSpPr>
            <p:nvPr/>
          </p:nvCxnSpPr>
          <p:spPr>
            <a:xfrm flipH="1" rot="16200000">
              <a:off x="996840" y="3666240"/>
              <a:ext cx="505440" cy="46260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4" name="Group 15"/>
          <p:cNvGrpSpPr/>
          <p:nvPr/>
        </p:nvGrpSpPr>
        <p:grpSpPr>
          <a:xfrm>
            <a:off x="2351160" y="3284640"/>
            <a:ext cx="1573200" cy="1296720"/>
            <a:chOff x="2351160" y="3284640"/>
            <a:chExt cx="1573200" cy="1296720"/>
          </a:xfrm>
        </p:grpSpPr>
        <p:sp>
          <p:nvSpPr>
            <p:cNvPr id="105" name="Oval 16"/>
            <p:cNvSpPr/>
            <p:nvPr/>
          </p:nvSpPr>
          <p:spPr>
            <a:xfrm>
              <a:off x="2404800" y="3284640"/>
              <a:ext cx="5112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2351160" y="4149720"/>
              <a:ext cx="1573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LOI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Curved Connector 18"/>
            <p:cNvCxnSpPr>
              <a:stCxn id="105" idx="4"/>
              <a:endCxn id="106" idx="0"/>
            </p:cNvCxnSpPr>
            <p:nvPr/>
          </p:nvCxnSpPr>
          <p:spPr>
            <a:xfrm flipH="1" rot="16200000">
              <a:off x="2646360" y="3658320"/>
              <a:ext cx="505440" cy="47844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8" name="Group 21"/>
          <p:cNvGrpSpPr/>
          <p:nvPr/>
        </p:nvGrpSpPr>
        <p:grpSpPr>
          <a:xfrm>
            <a:off x="3635280" y="3284640"/>
            <a:ext cx="1657440" cy="1296720"/>
            <a:chOff x="3635280" y="3284640"/>
            <a:chExt cx="1657440" cy="1296720"/>
          </a:xfrm>
        </p:grpSpPr>
        <p:sp>
          <p:nvSpPr>
            <p:cNvPr id="109" name="Oval 22"/>
            <p:cNvSpPr/>
            <p:nvPr/>
          </p:nvSpPr>
          <p:spPr>
            <a:xfrm>
              <a:off x="3779640" y="3284640"/>
              <a:ext cx="1297080" cy="4172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635280" y="4149720"/>
              <a:ext cx="16574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SNO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Curved Connector 24"/>
            <p:cNvCxnSpPr>
              <a:stCxn id="109" idx="4"/>
              <a:endCxn id="110" idx="0"/>
            </p:cNvCxnSpPr>
            <p:nvPr/>
          </p:nvCxnSpPr>
          <p:spPr>
            <a:xfrm flipH="1" rot="16200000">
              <a:off x="4221000" y="3907080"/>
              <a:ext cx="448200" cy="37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2" name="Group 27"/>
          <p:cNvGrpSpPr/>
          <p:nvPr/>
        </p:nvGrpSpPr>
        <p:grpSpPr>
          <a:xfrm>
            <a:off x="5446800" y="3357720"/>
            <a:ext cx="1428840" cy="1150920"/>
            <a:chOff x="5446800" y="3357720"/>
            <a:chExt cx="1428840" cy="1150920"/>
          </a:xfrm>
        </p:grpSpPr>
        <p:sp>
          <p:nvSpPr>
            <p:cNvPr id="113" name="Oval 28"/>
            <p:cNvSpPr/>
            <p:nvPr/>
          </p:nvSpPr>
          <p:spPr>
            <a:xfrm>
              <a:off x="5446800" y="3357720"/>
              <a:ext cx="135756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5591160" y="4077000"/>
              <a:ext cx="128448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DSM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Curved Connector 30"/>
            <p:cNvCxnSpPr>
              <a:stCxn id="113" idx="4"/>
              <a:endCxn id="114" idx="0"/>
            </p:cNvCxnSpPr>
            <p:nvPr/>
          </p:nvCxnSpPr>
          <p:spPr>
            <a:xfrm flipH="1" rot="16200000">
              <a:off x="5998320" y="3843360"/>
              <a:ext cx="358920" cy="10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6" name="Group 67"/>
          <p:cNvGrpSpPr/>
          <p:nvPr/>
        </p:nvGrpSpPr>
        <p:grpSpPr>
          <a:xfrm>
            <a:off x="835200" y="1916280"/>
            <a:ext cx="4168440" cy="1368360"/>
            <a:chOff x="835200" y="1916280"/>
            <a:chExt cx="4168440" cy="1368360"/>
          </a:xfrm>
        </p:grpSpPr>
        <p:grpSp>
          <p:nvGrpSpPr>
            <p:cNvPr id="117" name="Group 66"/>
            <p:cNvGrpSpPr/>
            <p:nvPr/>
          </p:nvGrpSpPr>
          <p:grpSpPr>
            <a:xfrm>
              <a:off x="835200" y="1916280"/>
              <a:ext cx="4168440" cy="1368360"/>
              <a:chOff x="835200" y="1916280"/>
              <a:chExt cx="4168440" cy="1368360"/>
            </a:xfrm>
          </p:grpSpPr>
          <p:sp>
            <p:nvSpPr>
              <p:cNvPr id="118" name="Oval 42"/>
              <p:cNvSpPr/>
              <p:nvPr/>
            </p:nvSpPr>
            <p:spPr>
              <a:xfrm rot="10800000">
                <a:off x="2339280" y="2881440"/>
                <a:ext cx="2437200" cy="4032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3"/>
              <p:cNvSpPr/>
              <p:nvPr/>
            </p:nvSpPr>
            <p:spPr>
              <a:xfrm>
                <a:off x="835200" y="1916280"/>
                <a:ext cx="4168440" cy="4320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400" spc="-1" strike="noStrike">
                    <a:solidFill>
                      <a:srgbClr val="c00000"/>
                    </a:solidFill>
                    <a:latin typeface="Lucida Sans"/>
                  </a:rPr>
                  <a:t>Legal  and Ethical Regul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Curved Connector 44"/>
            <p:cNvCxnSpPr>
              <a:stCxn id="118" idx="4"/>
              <a:endCxn id="119" idx="4"/>
            </p:cNvCxnSpPr>
            <p:nvPr/>
          </p:nvCxnSpPr>
          <p:spPr>
            <a:xfrm flipV="1" rot="16200000">
              <a:off x="2971800" y="2294640"/>
              <a:ext cx="533880" cy="639360"/>
            </a:xfrm>
            <a:prstGeom prst="curvedConnector5">
              <a:avLst>
                <a:gd name="adj1" fmla="val 50000"/>
                <a:gd name="adj2" fmla="val 49971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1" name="Group 65"/>
          <p:cNvGrpSpPr/>
          <p:nvPr/>
        </p:nvGrpSpPr>
        <p:grpSpPr>
          <a:xfrm>
            <a:off x="6110280" y="1887480"/>
            <a:ext cx="2278080" cy="1397160"/>
            <a:chOff x="6110280" y="1887480"/>
            <a:chExt cx="2278080" cy="1397160"/>
          </a:xfrm>
        </p:grpSpPr>
        <p:sp>
          <p:nvSpPr>
            <p:cNvPr id="122" name="Oval 56"/>
            <p:cNvSpPr/>
            <p:nvPr/>
          </p:nvSpPr>
          <p:spPr>
            <a:xfrm>
              <a:off x="6311880" y="2853000"/>
              <a:ext cx="1357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7"/>
            <p:cNvSpPr/>
            <p:nvPr/>
          </p:nvSpPr>
          <p:spPr>
            <a:xfrm>
              <a:off x="6110280" y="1887480"/>
              <a:ext cx="2278080" cy="53352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HL7/openE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Curved Connector 58"/>
            <p:cNvCxnSpPr>
              <a:stCxn id="123" idx="4"/>
              <a:endCxn id="122" idx="0"/>
            </p:cNvCxnSpPr>
            <p:nvPr/>
          </p:nvCxnSpPr>
          <p:spPr>
            <a:xfrm rot="5400000">
              <a:off x="6903360" y="2506320"/>
              <a:ext cx="432360" cy="261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12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F8798-83C0-4F7A-85D4-463C5F3EA95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37"/>
          <p:cNvSpPr/>
          <p:nvPr/>
        </p:nvSpPr>
        <p:spPr>
          <a:xfrm>
            <a:off x="3059280" y="6308640"/>
            <a:ext cx="28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26800"/>
            <a:ext cx="7199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howcases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8" name="Espace réservé du pied de page 16"/>
          <p:cNvSpPr/>
          <p:nvPr/>
        </p:nvSpPr>
        <p:spPr>
          <a:xfrm>
            <a:off x="2987640" y="6356520"/>
            <a:ext cx="28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II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linical Trial 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Subject Selection Criteria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unbiased randomised selection of subjects i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se III clinical trial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return subjects 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with diabetesValue &gt; 4 and weight &gt;80 and hasCancer 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ost Marketing Surveillance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rmacovigilance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 of a drug after it receives permission to be sold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DrugX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association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headach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Chemoinformatic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identification of relations betwee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molecular fragments 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and specific adverse drug event categori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chemicalFragmentX (of DrugX)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rash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E338F-AF25-42AE-AC97-0A7D4FB621CC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nable Patient Safety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in clinical trial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sit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data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ild a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semantically-interlinked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medical information space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ecruit patients across European clinical data set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adverse event detect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upport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ffective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organization </a:t>
            </a:r>
            <a:r>
              <a:rPr b="0" i="1" lang="en-GB" sz="2400" spc="-1" strike="noStrike">
                <a:solidFill>
                  <a:srgbClr val="00446a"/>
                </a:solidFill>
                <a:latin typeface="Calibri"/>
              </a:rPr>
              <a:t>and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execution of clinical trial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embedding governance / legal / ethics in proces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F5B4F-AE79-48E7-A91D-B47D981C060E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4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afety First – Ethical &amp; Legal Aspect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sp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atients’ anonymity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data’s ownership 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rivac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ot possibl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transfer or copy patient data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om the originating institution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l machines that hold patient data are need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remain off-lin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linical data will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not be identifiable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d should not lead to the identification of a person’s identity (either directly or indirectly e.g.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back-tracing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Strictly adher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consent form </a:t>
            </a: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quirements and all ethical and legal issues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(European and nationa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0500A-05B1-4AFC-BF9D-99D220F3F7F8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856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Data </a:t>
            </a: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Anonymis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197000"/>
            <a:ext cx="84358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ddresses legal and ethical issues b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Closed-world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oom pre-processing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Usage of </a:t>
            </a: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data-cub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7369" t="8316" r="25151" b="16455"/>
          <a:stretch/>
        </p:blipFill>
        <p:spPr>
          <a:xfrm>
            <a:off x="4140360" y="2235240"/>
            <a:ext cx="453204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108DF-CBD9-4A71-AE1D-29B48D067C88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88520"/>
            <a:ext cx="73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1628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Table 9" descr=""/>
          <p:cNvPicPr/>
          <p:nvPr/>
        </p:nvPicPr>
        <p:blipFill>
          <a:blip r:embed="rId1"/>
          <a:stretch/>
        </p:blipFill>
        <p:spPr>
          <a:xfrm>
            <a:off x="1365120" y="2236680"/>
            <a:ext cx="6340680" cy="267012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A4944-E4FA-4C33-BECC-170CDEFEEDCC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6"/>
          <p:cNvSpPr/>
          <p:nvPr/>
        </p:nvSpPr>
        <p:spPr>
          <a:xfrm>
            <a:off x="272880" y="17733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able 9" descr=""/>
          <p:cNvPicPr/>
          <p:nvPr/>
        </p:nvPicPr>
        <p:blipFill>
          <a:blip r:embed="rId1"/>
          <a:stretch/>
        </p:blipFill>
        <p:spPr>
          <a:xfrm>
            <a:off x="1725480" y="2530440"/>
            <a:ext cx="5718240" cy="266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344160"/>
            <a:ext cx="734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E5EE1-8E3C-411E-BA5E-698F38641F52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Ratnesh Sahay</cp:lastModifiedBy>
  <dcterms:modified xsi:type="dcterms:W3CDTF">2013-01-22T11:17:44Z</dcterms:modified>
  <cp:revision>227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